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D20-C98E-4156-9DBB-EA00CE42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166-A64B-483D-BAC6-DC91BE54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D2C-B5AD-498F-839C-1551E5CC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F9E-1AC7-4D7B-81D5-F436C1C0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6B8-7CCE-4A22-8985-48F1AAC7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E69-BF6E-4514-8045-E9481C62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495-71A0-4630-99AD-77E1C1A6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B14-10F9-4199-B9B2-99090433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17F-018A-4FE4-AB51-7D4C1E7A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C23-33F9-481B-BCF3-6FC417F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3E3-DA48-41C7-B03C-408CD65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3ED-46DA-4D46-914F-4AC57C9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D2B9-0B69-4F95-82C2-722215FB565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8 Keď súmrak halí strá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úmrak halí strá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tíchnu údol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tebe, drahý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úžby rozhor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úžby rozh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k ruža vôňu sv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 vôkol rozdá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pieseň vďaku m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tebe prináš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tebe prinášať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d svetom už zľah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prestrela svoj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e patrí vďa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uplynulý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uplynul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všetko teba,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rúcne veleb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chválou bez presta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tvoje meno ct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tvoje meno ct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53:54Z</dcterms:modified>
  <cp:revision>60</cp:revision>
  <dc:subject/>
  <dc:title>Je veľký náš Pán, on slávy je Kráľ Nech do všetkých strán  spev vrúcnych znie chvál.</dc:title>
</cp:coreProperties>
</file>